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BFDC8-3247-4005-A8FF-157A0CE502F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3F2B6-E817-4EBF-9892-F56910361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C96DE-3CD0-43E9-8855-C1FB33B86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B1C17-6AC7-40CB-87DA-EA34E6BA4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6E855-BC95-40B9-AE4D-040FD3369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0B59B-9400-4FFD-B7D9-C07C313B5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D675B-7CFD-4FE3-8A52-29C18D87C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9CF62-E7F3-4DF0-A642-E211BF0CD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9EA76-CBD3-421C-83DA-0F94387F2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C7449-973B-40C8-9171-2EC53A6E7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FC4FF-09B4-4796-BFC9-7945C8713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EF004-6984-4F0E-8B0E-BD3169B87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C1DA8-90C7-49FA-AD8A-AAB3845E1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FCE81-A01D-42E5-8A2E-804293579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B544F-4294-47CD-9F51-280FC0E8A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E3CC7-A380-49F1-9D21-D1D74F3EF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0F99F-55F7-40AD-A8FF-BCC820862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46F94-FC43-471C-BA85-5F9D8E1A3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25FC78-0D19-470F-AB77-C736A83C6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BA236-AD39-4685-8BD7-979D8DAC6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3C0D5-98D8-44E1-9DB6-98A2AF213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2B1DB-5455-42D6-8B49-C440124C3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86A77-EEAC-425B-8081-445C986F6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760A3-D016-4085-8CA9-19E8E4393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5C234-AB24-4148-B984-57E5360F2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191D8-5D5D-4C1D-97E0-B515BA71E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2334D-1C7C-41AA-8705-4FB26B372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8FA4E-866F-4386-BA0A-CA4BDA0A7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ED980-F7AF-4095-BE97-ED1CE8868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DD1E0-9F7E-46C6-BE6A-D6CB817EC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1F7BF-01E7-4BEC-974A-90067EAD1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DB9A8-E6EE-4099-A644-A703C0BD5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396BD-C880-4DF7-BE75-2E85E771E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04A85-787C-4AAA-8777-3100AA68A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A2BC5-37FA-4BC5-B722-0388D3654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88D11-BE2A-48CC-A288-5D356767C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1FA85-526B-4D1F-99CF-D67575B5F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AAC7C-B6F2-4945-BB97-CCB2CACF7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875A931-C7FB-409E-AB22-3A4990AAE7B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350C67C-3C6F-4BE9-A3C7-D96C1AEA2F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161D9E8-424E-4162-9771-5BEFEBC703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B7C4599-2A75-440C-BA45-22CA053FFD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1AC2774-AA1D-49A6-A877-C44967A93D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6DDCF61-DFA9-42CC-BC30-A025505B5C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1B2EB1D-16D6-4B71-92CF-6086E40446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E665701-6995-4AB8-A223-36E9A0465D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16ADEE3B-FBDB-4F49-9FFB-07886DEDF0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72118E1-14AA-4E0F-B9B6-B582B7720C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1A8731-E8F4-4755-B3A6-63A3500EC5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244DCB0-B5A8-454B-9BB7-BCDD2177FC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648091E-3C38-4F4F-B82B-1280ABAEAF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E58838A-8AAB-4C27-9222-E808FD9B3A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8217728-5FB7-4500-98C0-22235E1406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AF04F76-0CC5-448D-801D-69E6DE2DDC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CE5E792-FBCA-45A7-84AB-4A36B54301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DA95F9C-C0FE-41B2-9C90-5FA7D8DC7F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7ED9886-8065-4541-8B1A-D6E150518B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40F7846-0C00-4187-8786-F9FCC67C48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B059DC4-B924-469A-9D6D-51BC32AE16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600A884-73B0-4338-BBE2-3DEC43E952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421A36B-0613-4111-AB94-2DBC0F4197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76210BD-93EF-482E-A677-D868656580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C69D5D0-71C4-4BBA-B0E4-90A06017224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F8E1834-4F0E-4E07-B3AF-BA06281D2A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015E49C-18C9-4239-9085-5AB80D4737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D0038DA-FC74-4473-9271-C853FF0290E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371565A-E7EC-4F56-9DF0-9481A875E0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CDC4E76-DF4D-4DD9-9D40-E5DDDF5744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D176E85-FD1D-4D36-B394-1E615368A9D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F8685DA-95B2-451F-BD49-CA7D29F0A0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DA9CBD7-CD68-4A09-9552-EDEA2C4979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1DB609-2992-490D-B38E-1EB507DAB6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7339E55-AA42-487C-9B1C-4BA7CBD3E2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B715A06-E7E2-4FF1-9C0B-D24DA8D656B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06D5AD2-BDC7-4048-8C1A-467131127EF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9914E21-31A6-4C0A-8B87-1EE637FAD3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8026F25-9AB3-47F5-B3FB-FC032D26C3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6661064-4F47-4D65-8035-6624CDF496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F48FE85-4B2C-4A5D-89A3-1FA554A60F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581C015-7D1C-4834-AB99-BEAF5C03928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0FAF2C8-0086-40BF-BB57-223591D863F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CADEDCA-4D14-4820-8135-C8D9594EB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75A9EDD-22D1-4686-A142-445342C323E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8BFB2EE-17AC-4433-A24E-CD47A4756AA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896D5C7-C669-4BEF-AA9C-F6D0046B680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9B239F1-3323-4A91-8694-16D95F2D25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41B650A-D8AE-4792-816A-C2104FE35E3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22B099B-8B71-451B-ACDB-DC46A9B4F46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3ECEC34-BF41-461E-A919-102D5D46CE2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6FB0CF4-5958-4B68-B303-740E80C468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5772D61-F9E3-4587-A363-112E64013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436D361-7E3F-410D-AC43-C4B91481B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29F0D3C-1636-4115-AFC4-B424B091E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9228649-0063-41CA-8FE3-70368EDAE6A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DA977E49-023E-49C5-921B-F381D6E62D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1F890E5-6824-4D2D-B1CE-B7F7236B1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597CB6F-960C-4CB7-A390-2752A36D2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DBB4712-1598-4672-A08B-F4CA70DB6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8F11533-0905-45B0-892F-EC13A2702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6AA3D88-550E-4922-8B32-61806019E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78DD055-6C46-4552-B6FF-D919B2E7084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A0CDADB-A7DE-42D0-96A6-5CA6628124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A6615A7-943F-4A1C-972A-4FBC395AEC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A1CCC81-C65F-49BC-AD92-4578D4CCAC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EFFCC81-350D-40B7-8923-A0FB53EEB4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C34C6DF-36B4-43CC-A6F7-208F6A179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3C3D1FE-108B-4084-AB0F-8136CFA154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3D40BDD-485A-4D51-BC6C-BA6BCDD674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64C77D8-2D77-471C-A118-3A0336060E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55AACF3-4FCB-4AB1-A7A3-38E6135A0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8B146A9-C26A-4BD7-A227-A89A9405D6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0A7034-23B9-4573-AC07-E739D1F9DA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994B43-1C40-4AE9-AF2A-2D3B2CDD03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B7D08A-2FBC-4409-B79C-AC81230574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743BF30-EAB1-49FA-ACA0-2EEE09E1CE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01A84B-1F85-40C6-BCB9-E860A5CB8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74FF850-50B7-4424-B409-A027EF50A3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1451053-086D-4B4F-9D2C-CE3D9DD88D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8F97081-8D39-4E46-94B3-1BEE77C3EA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3A74035-838A-43ED-A46D-046F120989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1DD7C7B-19FF-4A59-A211-9C3C247E07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F6D7BAB-DECA-47D6-8843-8DD3A74E66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BF6DE10-9653-4361-A2C8-02E0B26376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9255854-5455-437E-BD3D-E0A034BD89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70ED9-DB00-40B5-A03C-956C8F5788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59504D2-26C3-4116-864F-F33608F555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104B9DE-D343-4DD4-880D-5E005D842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EA2A803-DF71-4D8B-B0A0-74D19E6858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696635F-6A39-4144-B820-2A11335B0B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8A424A3-D21E-4656-A555-01B9B490DA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A91CAE1B-7009-4778-9C9D-6F734CAC0F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8859746-B6E3-4B96-8EE0-CBD01C4C50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4AE9EF7-7B0C-4CE1-8418-A4CACEED280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98D5219-D4CD-4B2E-894E-AE2D6B64221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2F3B5DA-B6B3-4647-86AE-B68B4A276A7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AA6D882-A47F-4DE5-B8BB-96B5CE153B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4A039A1-CA3E-4D34-960E-871AB26A664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4DEEB26-7B6F-41BA-AD6D-CF2D9733E5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848B483-2D3A-41B6-84D1-99F27BE324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CEE8769-AB29-47D4-BEF4-EFDA4ECC8E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C2077F0-FBE6-4F25-85CA-3F18A6F7A4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7E31918-63EB-41D8-8ADE-35470B290E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F58529DA-B8F1-4EA8-98C0-05862C387C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DAE5316-B70F-408F-A37C-82AC655D0E4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CC1BA1B-3764-45D9-B69F-0D5ED0EDF9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8FD2A17-6B45-4FD3-9FEE-93347494A47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CCE9658-0BDE-4AC9-B7DF-C45F0C4E3EC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E706CCD-BE8F-40B4-A751-B2DA6F932C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8DF7065-A638-425A-9BC9-124EEAC7D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AAEE84F-9EC0-4AA6-BF48-BB357236FE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89ED946-2C30-476B-9DDB-34E2F6CEAD9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D083681-039A-4EE7-9A9A-2E54F0EBCC3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A0D2FB9-FE0C-445F-BC20-A3D61958B99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116EA41-2A1D-4182-A6C6-6D0C2A1C4B1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65E7EA9-7931-4667-B798-EF9ED06EC2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BD3B6CC-2156-4646-813C-F607002C1C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94E1425-65EA-4595-B304-FC669037DA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6F854B5-DA2A-4F2B-B3AD-CE15D5AAA2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D4FF9DF-0E75-4656-812F-77D61EC9001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AABEA55-13D9-4A24-8610-16EFDEA0C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4E68782-AF5D-44B2-9483-4A41240F60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933F8DA-12E5-4EC1-9A59-64463458760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4FD204F-4241-44BE-8AF5-F6A93EC4F8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775033D-FD75-488B-83D1-59491F87361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B4F906C-6C01-4C34-93B6-F7CE1DAFB5B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7EE49F7-083B-4C38-994C-9101693B223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F2CB4B1-1052-4FDF-AAC7-9D5980FE9D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F879F00-CECA-45BC-BD15-8EF430607EE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5FB901E-E1F8-4E87-86C7-C0D90A1D8D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754012F-A642-4F15-8E7B-9EAFCD8B3C2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EED9BE9-F1CF-4FED-8B38-A211314ABF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2824FB8-E11C-43DF-9BAA-4F84017D57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11021A9-7F64-4197-9A22-020DC12E42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F830852-7277-44A5-9128-B351F52FB8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5AEFBFC-9FAA-495F-BCF9-05E2EBCA544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347AE0A-52CC-448D-9FFF-AE869CEA8F0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0CB6669-AB3F-4280-A7C3-53D5D2D21F8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9BAE23-72F6-4710-84C6-EC610416A5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E084B1B-37AE-4550-85C3-16451A3BB02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F7AAE19-F71C-49DA-9752-E8D2FB0D25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A4A7BA5-DAB9-4EAB-AE32-A9CCC8BE558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8C087A2F-A804-4880-A141-FD0AEDF59A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56A4479-170B-44B3-AB9F-C77CE58ACC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E8223E1-D64C-4C56-9439-86FDA4E8D9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AA7B6D7-C54C-41B6-BF67-4C0D8F5D62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769B2B8-EE6F-486A-9560-42F38AAA98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7C186E2-45A7-404D-A93D-4124B215A75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161A9E5-357F-4822-8015-B62C65D8C0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81F3791-F596-4453-BB23-803920B925B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46D50C1-496C-44B0-B308-1DEE10A5D4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666042E-1A32-4AB9-AC92-81F38A60D1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4855232-FB19-4435-977A-49E9D8B78A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17E91F7-8ABF-4B29-A0F5-37511218EC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06322-A3C3-4CAE-A409-0D016C4C05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660B7-306F-43B8-B149-7AB4C0A596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1649F-4B16-4C6F-9E5F-D6F61DB972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1D472-2740-45B7-9E15-5E37516B50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01D60-83F1-4656-A88D-14E6BC5E200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12823-AE96-4E08-86E4-54078EE1D8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2F483-CF38-471C-B232-EFD273B51B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16655-FE67-4C97-A081-9601B647ED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54A03-7497-4667-BC24-41923335E4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FC7FF-03DA-48F7-BEB4-4D29190584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E0921-EBCC-458E-9CBF-AB1EAFD9C3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AFD67-8942-46F2-89ED-97F39685B8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7C217-152C-4EBA-B0FC-8156135F9C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24000" y="620640"/>
            <a:ext cx="8605800" cy="5164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5840" y="1392120"/>
            <a:ext cx="87152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400"/>
            </a:br>
            <a:br>
              <a:rPr sz="16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85840" y="981000"/>
            <a:ext cx="871524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28760" y="1392120"/>
            <a:ext cx="84294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413000"/>
            <a:ext cx="8640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24000" y="1125360"/>
            <a:ext cx="84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981000"/>
            <a:ext cx="79912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74" name="" descr=""/>
          <p:cNvPicPr/>
          <p:nvPr/>
        </p:nvPicPr>
        <p:blipFill>
          <a:blip r:embed="rId1"/>
          <a:stretch/>
        </p:blipFill>
        <p:spPr>
          <a:xfrm>
            <a:off x="0" y="0"/>
            <a:ext cx="9144000" cy="1368360"/>
          </a:xfrm>
          <a:prstGeom prst="rect">
            <a:avLst/>
          </a:prstGeom>
          <a:ln w="0">
            <a:noFill/>
          </a:ln>
        </p:spPr>
      </p:pic>
      <p:pic>
        <p:nvPicPr>
          <p:cNvPr id="875" name="" descr=""/>
          <p:cNvPicPr/>
          <p:nvPr/>
        </p:nvPicPr>
        <p:blipFill>
          <a:blip r:embed="rId2"/>
          <a:stretch/>
        </p:blipFill>
        <p:spPr>
          <a:xfrm>
            <a:off x="1258920" y="2060640"/>
            <a:ext cx="1297080" cy="1528560"/>
          </a:xfrm>
          <a:prstGeom prst="rect">
            <a:avLst/>
          </a:prstGeom>
          <a:ln w="0">
            <a:noFill/>
          </a:ln>
        </p:spPr>
      </p:pic>
      <p:pic>
        <p:nvPicPr>
          <p:cNvPr id="876" name="" descr=""/>
          <p:cNvPicPr/>
          <p:nvPr/>
        </p:nvPicPr>
        <p:blipFill>
          <a:blip r:embed="rId3"/>
          <a:stretch/>
        </p:blipFill>
        <p:spPr>
          <a:xfrm>
            <a:off x="6948360" y="1989000"/>
            <a:ext cx="1444680" cy="1573200"/>
          </a:xfrm>
          <a:prstGeom prst="rect">
            <a:avLst/>
          </a:prstGeom>
          <a:ln w="0">
            <a:noFill/>
          </a:ln>
        </p:spPr>
      </p:pic>
      <p:sp>
        <p:nvSpPr>
          <p:cNvPr id="877"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000000"/>
              </a:solidFill>
              <a:latin typeface="Times New Roman"/>
            </a:endParaRPr>
          </a:p>
        </p:txBody>
      </p:sp>
      <p:sp>
        <p:nvSpPr>
          <p:cNvPr id="878"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1268280"/>
            <a:ext cx="864216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57120" y="1392120"/>
            <a:ext cx="85726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43000"/>
            <a:ext cx="8605800" cy="4641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1:46Z</dcterms:modified>
  <cp:revision>156</cp:revision>
  <dc:subject/>
  <dc:title>Παρουσίαση του PowerPoint</dc:title>
</cp:coreProperties>
</file>